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6A5B-6027-48BD-A5FD-57A419704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8F4F-C3C5-496F-9CF0-BAB23CF1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2D1D-8648-4BEF-85E1-C2A6E463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E6C0-6CD4-47FD-907E-1F05CF43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733A-D8F1-4207-8CE0-CF186AFD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8CC9-B055-47DA-9526-5390908F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D4EB-1829-457A-8044-B9E844C2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8A6D-3894-46F4-87D8-05762706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C9D5-C194-4D4F-84F2-E34805DF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128F-EA6D-4953-87F5-E73EB3EA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1535-E6E6-4026-AB42-B4C2CE72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FE7E-E872-4A99-8569-48A5CB73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83D8-FEC0-4695-9FAC-3B063650C053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APITOL 1</a:t>
            </a: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Calibri"/>
              </a:rPr>
              <a:t>SISTEME DE OPER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Calibri"/>
              </a:rPr>
              <a:t>NAVIGARE W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REARE DIRECTOR PROI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2643120" y="3357720"/>
            <a:ext cx="361476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REARE FISIER SUNET  -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ine 1" descr=""/>
          <p:cNvPicPr/>
          <p:nvPr/>
        </p:nvPicPr>
        <p:blipFill>
          <a:blip r:embed="rId1"/>
          <a:stretch/>
        </p:blipFill>
        <p:spPr>
          <a:xfrm>
            <a:off x="571680" y="1285920"/>
            <a:ext cx="4410000" cy="3305160"/>
          </a:xfrm>
          <a:prstGeom prst="rect">
            <a:avLst/>
          </a:prstGeom>
          <a:ln w="0">
            <a:noFill/>
          </a:ln>
        </p:spPr>
      </p:pic>
      <p:pic>
        <p:nvPicPr>
          <p:cNvPr id="47" name="Imagine 4" descr=""/>
          <p:cNvPicPr/>
          <p:nvPr/>
        </p:nvPicPr>
        <p:blipFill>
          <a:blip r:embed="rId2"/>
          <a:stretch/>
        </p:blipFill>
        <p:spPr>
          <a:xfrm>
            <a:off x="4357800" y="3143160"/>
            <a:ext cx="461016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REARE FISIER AUDIO CU FUND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Imagine 4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3807000" cy="2857320"/>
          </a:xfrm>
          <a:prstGeom prst="rect">
            <a:avLst/>
          </a:prstGeom>
          <a:ln w="0">
            <a:noFill/>
          </a:ln>
        </p:spPr>
      </p:pic>
      <p:pic>
        <p:nvPicPr>
          <p:cNvPr id="50" name="Imagine 10" descr=""/>
          <p:cNvPicPr/>
          <p:nvPr/>
        </p:nvPicPr>
        <p:blipFill>
          <a:blip r:embed="rId2"/>
          <a:stretch/>
        </p:blipFill>
        <p:spPr>
          <a:xfrm>
            <a:off x="4714920" y="1428840"/>
            <a:ext cx="3881520" cy="2916000"/>
          </a:xfrm>
          <a:prstGeom prst="rect">
            <a:avLst/>
          </a:prstGeom>
          <a:ln w="0">
            <a:noFill/>
          </a:ln>
        </p:spPr>
      </p:pic>
      <p:pic>
        <p:nvPicPr>
          <p:cNvPr id="51" name="Imagine 34" descr=""/>
          <p:cNvPicPr/>
          <p:nvPr/>
        </p:nvPicPr>
        <p:blipFill>
          <a:blip r:embed="rId3"/>
          <a:stretch/>
        </p:blipFill>
        <p:spPr>
          <a:xfrm>
            <a:off x="2143080" y="3500280"/>
            <a:ext cx="40338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REARE W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CREARE PAGINI WIKI </a:t>
            </a:r>
            <a:br>
              <a:rPr sz="4000"/>
            </a:b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– ADAUGARE FISI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ADAUGARE IMAGINI SUNETE PE WIK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POSTARE EVALUARI PE W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3:45:57Z</dcterms:created>
  <dc:creator>user</dc:creator>
  <dc:description/>
  <dc:language>en-US</dc:language>
  <cp:lastModifiedBy>Critter</cp:lastModifiedBy>
  <dcterms:modified xsi:type="dcterms:W3CDTF">2012-02-12T18:38:19Z</dcterms:modified>
  <cp:revision>2</cp:revision>
  <dc:subject/>
  <dc:title>CAPITOL 1  </dc:title>
</cp:coreProperties>
</file>